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57022"/>
        <c:axId val="3500294"/>
      </c:barChart>
      <c:catAx>
        <c:axId val="43057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0294"/>
        <c:crosses val="autoZero"/>
        <c:auto val="1"/>
        <c:lblAlgn val="ctr"/>
        <c:lblOffset val="100"/>
        <c:noMultiLvlLbl val="0"/>
      </c:catAx>
      <c:valAx>
        <c:axId val="3500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57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B14-1CD0-4D48-98CA-8BD103AD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EA8-37ED-4AD3-B10D-0F2A085C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679-03A0-43CC-8ABF-BEFAAF5D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C89-BCB7-4575-9872-A8F18BC2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9DF-5161-459F-A0AC-56CB6592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14B-23EF-4491-AA66-9D73A346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A40-C7D5-45FC-BB21-D4A03CEE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D05-CE40-4E16-BD88-B0373A89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A0F-8442-41F6-9083-6E8C950E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466-80D8-4212-9BE7-5E2C630A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9B0-0842-413F-8D65-8164DACC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806-4148-48F1-B2BF-1D4E3DE5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57457-53F7-4AE1-B79B-8E6F93A5EC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