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183368"/>
        <c:axId val="98143376"/>
      </c:barChart>
      <c:catAx>
        <c:axId val="691833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143376"/>
        <c:crosses val="autoZero"/>
        <c:auto val="1"/>
        <c:lblAlgn val="ctr"/>
        <c:lblOffset val="100"/>
        <c:noMultiLvlLbl val="0"/>
      </c:catAx>
      <c:valAx>
        <c:axId val="981433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1833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EA01-B6C1-4B90-AB19-C323D7DB7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4822-C722-4F0C-85DB-5B32C3CBC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D1A2-EBD1-4D98-B908-F2AD9183E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E965-A7D3-41FB-8AAD-690EC81D0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EEC2-8B0A-4345-B340-C08BD100A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18CA-34E7-4648-962B-80539D970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5233-9AFA-44CD-875C-D3B3A5CA3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F79F-223A-478F-9CEB-6696DB005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ED93-F14B-49C5-B721-3A4C8EBAE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C0D7-D495-4BA2-945D-8DBF00041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9572-F736-4026-B14A-196FC1825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F5E3-3C6C-4F1E-A5EC-D18F10881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D55CE8-F021-466A-A1B8-28673B6CF9E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