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619075"/>
        <c:axId val="17207670"/>
      </c:barChart>
      <c:catAx>
        <c:axId val="346190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07670"/>
        <c:crosses val="autoZero"/>
        <c:auto val="1"/>
        <c:lblAlgn val="ctr"/>
        <c:lblOffset val="100"/>
        <c:noMultiLvlLbl val="0"/>
      </c:catAx>
      <c:valAx>
        <c:axId val="172076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190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ACED-CD9A-410F-9AAF-93C0DFB8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5CD8-F86C-4166-9E8D-9B62F8BC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768C-1E1A-4C99-90ED-DAC7620C2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CE1A-28B3-4CAB-9C8D-1C726B2D3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2B88-B43D-4830-A371-6499792A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C69E-9AEB-478F-935C-E313009A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0231-AA77-483F-9FBF-D3544882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195A-DA1E-43AA-8CDD-805FB91B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DFB5-D3EE-4567-8E54-E7B32E7A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E7A2-9FCC-475B-A6D5-4C090C57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E991-7E05-409F-A034-7EB1C8B1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57C2-25DD-45A7-999D-FEC87507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3F9F2-304A-4938-A766-7564EB7E32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