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92803"/>
        <c:axId val="69948787"/>
      </c:barChart>
      <c:catAx>
        <c:axId val="240928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48787"/>
        <c:crosses val="autoZero"/>
        <c:auto val="1"/>
        <c:lblAlgn val="ctr"/>
        <c:lblOffset val="100"/>
        <c:noMultiLvlLbl val="0"/>
      </c:catAx>
      <c:valAx>
        <c:axId val="69948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928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941-D990-4F0A-8657-C37E2710F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A8F6-DC9D-44BE-AEA4-7F2D02D2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651-256D-4341-883B-6EA31F4DD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3F4-7F34-4FF3-80D4-A33682DF0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4B8-3455-4882-8986-6904389BA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6D1-726E-438E-95E5-BE4F2C3E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C9BD-1205-4373-B2E3-C6C4366E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9254-9DF3-485A-866E-72EE7B28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99CD-DCE2-486E-B120-452EBBE62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6415-BBE3-48E8-A34A-314DEE7C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4EB-A422-489C-8222-025362FD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142B-1C52-45D4-B43C-06109EA3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F888C-70BE-4B56-AD14-75B3FC4AE8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