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10170"/>
        <c:axId val="66297318"/>
      </c:barChart>
      <c:catAx>
        <c:axId val="33110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97318"/>
        <c:crosses val="autoZero"/>
        <c:auto val="1"/>
        <c:lblAlgn val="ctr"/>
        <c:lblOffset val="100"/>
        <c:noMultiLvlLbl val="0"/>
      </c:catAx>
      <c:valAx>
        <c:axId val="66297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10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D3A-A077-4594-8D4C-BDBD2D92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684-6010-40D8-95DB-B45B0467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0C6-38E2-4F6A-8D41-043C0FE2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90B-0198-4D45-ACC9-27B5B38F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9CF-554E-4DB1-B798-3495B721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1CA-BF77-4E6F-8034-D5890CB5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F2D-66A1-4CB6-8C03-12990D80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AAD-74CF-4DB1-8DF6-0632C205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F09-7E67-44D0-8BE7-BFA3CD38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BE9-3A63-45F9-9D0F-03F4E51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4D5-2E82-403E-9FCE-9F50D207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11F8-0362-4FBB-BD25-79EA195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AC04E-4366-48AB-BDFF-DF1EE94C60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