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64404"/>
        <c:axId val="86757915"/>
      </c:barChart>
      <c:catAx>
        <c:axId val="3996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57915"/>
        <c:crosses val="autoZero"/>
        <c:auto val="1"/>
        <c:lblAlgn val="ctr"/>
        <c:lblOffset val="100"/>
        <c:noMultiLvlLbl val="0"/>
      </c:catAx>
      <c:valAx>
        <c:axId val="8675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6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49A-0721-4495-938E-2FB2DD0B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1B4-1E20-47E8-859E-29639122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2EB-D813-4D38-A3D1-713AC7F8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CB3-10C8-48E0-8A58-DFA5BBAB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F55-F241-406A-9283-7DB666F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DCB-75CB-4C9C-AA01-856527D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15F-3E75-475E-930B-2E4DB58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EB1-39E7-4367-9882-4B84D43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42E-5CD3-4BBC-B447-BE089746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556-6339-4BDF-91AE-681E592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695-77B4-462A-B15D-B0B2E14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340-C198-4D7D-A5F6-AFC075F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285C5-0A0E-4181-9A33-84621693A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