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76719"/>
        <c:axId val="45625079"/>
      </c:barChart>
      <c:catAx>
        <c:axId val="36176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25079"/>
        <c:crosses val="autoZero"/>
        <c:auto val="1"/>
        <c:lblAlgn val="ctr"/>
        <c:lblOffset val="100"/>
        <c:noMultiLvlLbl val="0"/>
      </c:catAx>
      <c:valAx>
        <c:axId val="45625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76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B66-B957-47CF-B279-FF9021E5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2E5-FADC-4B27-B595-7D350D74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820-A96C-4889-B474-88DC433E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6B7-04FC-46B1-8965-6A053A4C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ACA-321A-418C-868E-0E6987CC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27A-83E8-45AC-B9D0-B8DF421C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EA3-4EAA-46DD-807E-8D22A55D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342-3BB5-4A9D-9FFE-CFDA93A1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399-DA06-4251-8156-2DADB934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F21-B3B0-4162-A98B-B212BDEF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65D-276F-451F-9303-82392A2F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4F3-DA77-433B-9070-2460BDDC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46DD1-B0CD-4D65-8CE5-14558696D4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