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65355"/>
        <c:axId val="23163349"/>
      </c:barChart>
      <c:catAx>
        <c:axId val="77365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3349"/>
        <c:crosses val="autoZero"/>
        <c:auto val="1"/>
        <c:lblAlgn val="ctr"/>
        <c:lblOffset val="100"/>
        <c:noMultiLvlLbl val="0"/>
      </c:catAx>
      <c:valAx>
        <c:axId val="23163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65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3DD-DCF5-401E-B59B-34F1892A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10D-D19A-43C0-A996-AEAB955A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02D-341F-4EC6-B498-AE6903CE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718-F769-49CE-A5B7-6E32541C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813-16C9-4132-84CD-64AC22D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AE2-50BC-4A78-AA4B-2886F250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352-233A-46B5-97C3-4E0FB7E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72B-550A-4050-8229-CB3ECB1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F83-1AEF-46CA-A5CB-F0430C1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755-C406-4D4C-9573-D577470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360-F20D-49C0-89CD-FC36F91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562-21A2-4907-A2E2-14B96A7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2C567-E6F8-42DB-97FF-104BD3CFB9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