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21822"/>
        <c:axId val="39842254"/>
      </c:barChart>
      <c:catAx>
        <c:axId val="51721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42254"/>
        <c:crosses val="autoZero"/>
        <c:auto val="1"/>
        <c:lblAlgn val="ctr"/>
        <c:lblOffset val="100"/>
        <c:noMultiLvlLbl val="0"/>
      </c:catAx>
      <c:valAx>
        <c:axId val="39842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21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E6F-5835-4AD5-BB42-F59134E1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926-CC4C-4BDE-8CBA-6EF986A4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406-5FDC-4EF9-A93C-F28C8085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B8B-5451-4377-BB3A-BB740B2F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A229-F734-45BD-B142-573FCE71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411-E34C-481C-BFFF-EF190F5D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4AC-0306-4E61-A4E2-7DB1EBD6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88D-36F1-4D2A-B496-41ED7D48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6D9-F938-4C6B-91ED-44473E9A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6E1-DEDE-4501-BCAD-9ED223EC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E8C-AD51-40D8-A94F-3F76F2FB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9A6-A941-436F-854C-E62A6921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2769A-910E-4A4E-841C-C06A6255D2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