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78706"/>
        <c:axId val="12999958"/>
      </c:barChart>
      <c:catAx>
        <c:axId val="59078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9958"/>
        <c:crosses val="autoZero"/>
        <c:auto val="1"/>
        <c:lblAlgn val="ctr"/>
        <c:lblOffset val="100"/>
        <c:noMultiLvlLbl val="0"/>
      </c:catAx>
      <c:valAx>
        <c:axId val="12999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78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7C5-9D24-437D-B249-F2076A9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666-EFFE-4003-AD2D-16B0325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951-3677-404B-9731-430FD856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E2B-3C5A-46AB-A5D1-65897470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82D-7A81-4B3E-9DBA-8B61C69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9C0-CF0D-42DE-A4B2-DB8ED42A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BE5-9CDB-4A65-93A6-209CCE6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C44-66F6-4FB6-8D5C-CCC2970F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959-03E0-48EE-AE3F-64BFA04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74-63A2-4C8C-A0C4-D66C5F7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1EA-81ED-4050-82EF-D6A15D2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91E-402B-4946-9BA6-0861BFF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54AB5-03D2-4823-8015-CFA125003B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