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293866"/>
        <c:axId val="29319896"/>
      </c:barChart>
      <c:catAx>
        <c:axId val="102938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19896"/>
        <c:crosses val="autoZero"/>
        <c:auto val="1"/>
        <c:lblAlgn val="ctr"/>
        <c:lblOffset val="100"/>
        <c:noMultiLvlLbl val="0"/>
      </c:catAx>
      <c:valAx>
        <c:axId val="293198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938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234B-5976-4738-BFBF-9DE4555E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687-6A03-49CD-B4DD-01B717C9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F392-D065-49F6-952D-B134069B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F445-9E58-457A-8410-3EB245FD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AF6F-1E09-4CCE-A39D-6B856DA5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0DB-E93B-4747-9666-8B80EEC1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24C-2A8F-46BF-9EBE-51D89718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5685-569F-4547-A55C-372A9F25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12C-22E1-4472-BAA9-FA406AAE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B5FF-66B3-4BE8-AB3F-6791D770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13B-4877-4E39-9214-3E3CD549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1FB9-819F-414D-96D8-A099FE27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BA69C-1622-4877-A266-1C30F8BFD8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