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92009"/>
        <c:axId val="54602661"/>
      </c:barChart>
      <c:catAx>
        <c:axId val="34892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02661"/>
        <c:crosses val="autoZero"/>
        <c:auto val="1"/>
        <c:lblAlgn val="ctr"/>
        <c:lblOffset val="100"/>
        <c:noMultiLvlLbl val="0"/>
      </c:catAx>
      <c:valAx>
        <c:axId val="54602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92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48B-C420-4410-88BC-680E6485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8FE-2A64-445B-AF97-556DCCD3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584-0D6D-4690-9209-F6F3E974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B18-05FD-429A-B237-0A7C1026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0E5-D972-412D-BFC9-60BFF5A3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BD3-9197-4A1D-A5E1-65B47E8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7BF-585E-4C1D-B83C-278C15F5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3C3-59EA-4372-B85D-72E96C64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E7E-5788-4721-B088-DF52E11B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46C-196C-4139-843B-41D0C91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FA8-7F88-4CB0-93C8-C9F7992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FB0-6D12-40DD-995F-0F6BFCFC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F5CA9-7FFB-471D-87F2-B00244162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