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73291"/>
        <c:axId val="70101995"/>
      </c:barChart>
      <c:catAx>
        <c:axId val="34732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101995"/>
        <c:crosses val="autoZero"/>
        <c:auto val="1"/>
        <c:lblAlgn val="ctr"/>
        <c:lblOffset val="100"/>
        <c:noMultiLvlLbl val="0"/>
      </c:catAx>
      <c:valAx>
        <c:axId val="701019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732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FF85-8AB3-46DA-958C-2EBD034E8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7F4A-EB8A-472C-BAA6-BAE6614C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B9EC-9FB3-4A71-8060-AED052C6F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895A-08AA-4893-A92F-7056F5AA4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7245-CB52-4BA3-B2C0-351CC860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BFC4-EB77-427A-AD0F-00797C35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7954-2186-4CBA-8221-32838703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CBCF-9CCF-4275-88D1-066F19E0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9887-5445-4259-8B32-3F4FA461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8A04-A6B8-443F-AE58-E63ABD29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75B6-735D-48A5-B5BF-71167ADB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6FD9-D457-43E4-B0F7-F4986F50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01D28E-DCAA-4C00-8D2B-132AB33D59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