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11887"/>
        <c:axId val="42317503"/>
      </c:barChart>
      <c:catAx>
        <c:axId val="88611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7503"/>
        <c:crosses val="autoZero"/>
        <c:auto val="1"/>
        <c:lblAlgn val="ctr"/>
        <c:lblOffset val="100"/>
        <c:noMultiLvlLbl val="0"/>
      </c:catAx>
      <c:valAx>
        <c:axId val="42317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11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77E-D0AF-401A-B0B2-A31A4ED0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744-0ADC-4AA6-8737-49374AD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262-9045-47FA-828B-193024B0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CE7-9F49-4315-9682-06407D26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A2F-F9BA-4422-B605-8A9B8C8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ECB-E2EC-4C27-8248-8ECF225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45B-2B73-4043-8FFC-E484E5FF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F1C-2AB1-44F0-8581-47E69198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512-EF70-4C99-9315-C044B5D7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002-FAD7-489D-8BDE-D3F65D8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77B-3CE0-413D-A909-DB5D387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FC9-F985-47E5-A787-00D9BBD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EFCC5-99F9-4513-B1B4-8C6498A24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