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36249"/>
        <c:axId val="71939812"/>
      </c:barChart>
      <c:catAx>
        <c:axId val="628362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39812"/>
        <c:crosses val="autoZero"/>
        <c:auto val="1"/>
        <c:lblAlgn val="ctr"/>
        <c:lblOffset val="100"/>
        <c:noMultiLvlLbl val="0"/>
      </c:catAx>
      <c:valAx>
        <c:axId val="71939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362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A30-8A91-4E94-B9BA-6F4A77CB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E0C-FA8B-4184-B4DB-6085E003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CEF-2966-4682-AA23-BB5AE572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E33-6357-4337-9A57-3730006F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583-4EFF-4EF2-97B3-2BCBCFE4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FBA9-11FC-4BAA-9261-6CF2E4D5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922E-C94B-4A4A-BE09-8B3D0FCF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BF53-9174-4747-9F39-99C87D72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979-3A63-4879-A406-19A76971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1A5-8BB9-4EF7-8C62-51DAAB9E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BFE5-68FF-43CC-BB97-CA7BC193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837-0D1D-49B6-B79E-E5BB107F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BA2C3-A2C4-4F23-A5CF-20764A7CCC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