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8353"/>
        <c:axId val="56463117"/>
      </c:barChart>
      <c:catAx>
        <c:axId val="7183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63117"/>
        <c:crosses val="autoZero"/>
        <c:auto val="1"/>
        <c:lblAlgn val="ctr"/>
        <c:lblOffset val="100"/>
        <c:noMultiLvlLbl val="0"/>
      </c:catAx>
      <c:valAx>
        <c:axId val="564631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3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0E28-3A29-4467-A64D-ED3F97641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A3A1-CD39-4B46-BB78-AB8A0376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C62A-5905-4C40-B9F4-CC1DBF1F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311F-1198-4B88-9180-88948FC3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73B8-D29B-4039-9DAA-AF691858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E5DA-A301-4464-9121-7EF11DB8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B74F-8C9A-4AF1-B574-EC05EC1B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DEAF-9CF2-4FD3-8045-FAF7257E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CECB-1429-4EF4-8DF3-819DF9AF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0535-97F5-4143-9BED-DD33D123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282E-2BF4-4E8F-9F8F-4DB7A988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C39F-83A1-4178-ADE5-1EEADA98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98B32-D1C4-48C8-A3BB-B22081AC0B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