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58094"/>
        <c:axId val="64253643"/>
      </c:barChart>
      <c:catAx>
        <c:axId val="79558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53643"/>
        <c:crosses val="autoZero"/>
        <c:auto val="1"/>
        <c:lblAlgn val="ctr"/>
        <c:lblOffset val="100"/>
        <c:noMultiLvlLbl val="0"/>
      </c:catAx>
      <c:valAx>
        <c:axId val="64253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58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3EF-24DE-4F36-A6F7-4305F485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2D0-9566-44D3-84A3-755B3408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6C8-25E5-4409-A504-C741102E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422-A86C-4BDE-95FC-DDDC15AD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CB9-80E7-4D2C-8DF5-FC0A9275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4F4-9467-4FAC-9019-10943F23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50A-A0C0-4A69-A6F4-A62C39D0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3D3-D0C1-4A95-8390-D051EB6A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9AB-4D97-4B45-975B-CD2522AE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F26-6B08-4907-AE51-9DD054AE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CA1-2C6F-4E72-B224-C4395E8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24E-DDC2-4916-A1FE-F88A87B3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9D679-EADF-4F6B-AC09-6BA69BA657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