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944720"/>
        <c:axId val="44530705"/>
      </c:barChart>
      <c:catAx>
        <c:axId val="894472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530705"/>
        <c:crosses val="autoZero"/>
        <c:auto val="1"/>
        <c:lblAlgn val="ctr"/>
        <c:lblOffset val="100"/>
        <c:noMultiLvlLbl val="0"/>
      </c:catAx>
      <c:valAx>
        <c:axId val="4453070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4472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189BD-1642-4ED0-AFA1-43D6B4AA2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2F3CF-661E-4EE1-9B62-5D48B4D96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F8292-BA2F-436B-A633-220181961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4644F-CD0C-4F69-BBD8-7127C574E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E8767-515E-4E0C-91A1-4F903CAEB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56C7A-61E0-434A-A5D4-EB50F85DD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33084-0B0F-4A14-AD63-FB43F5DF1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98A1B-25C8-4E66-BA14-AA23A14EF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A9990-1EB7-43FA-8225-9554807FC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E6E46-E1D1-4BE2-89F0-554804EE1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BAC89-DFC4-4A03-A1D7-DA5CD6AE6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D3697-30F5-4CC3-ADA1-9F2D88009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5F3308-FD15-46ED-A31A-FDD1203B153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