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4975"/>
        <c:axId val="13233372"/>
      </c:barChart>
      <c:catAx>
        <c:axId val="1624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33372"/>
        <c:crosses val="autoZero"/>
        <c:auto val="1"/>
        <c:lblAlgn val="ctr"/>
        <c:lblOffset val="100"/>
        <c:noMultiLvlLbl val="0"/>
      </c:catAx>
      <c:valAx>
        <c:axId val="132333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4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D91F-BCAB-43C2-AA8B-D8704AF4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E6D-7686-4F81-9A61-63863FD0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B0A-BAF5-4288-BB0F-BC8FBEC4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A72-478B-4BE6-A2D1-C27B4638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BBC-4114-4265-A940-CBE8B047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6D4-B4FA-4811-B691-890D25BB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9798-9B7F-4444-9661-7AE60DC4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646-7AED-48D7-B49B-31346D52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737-8096-446E-AA35-1409BC7E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C54-58F9-456C-B68F-CAFC3FE8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271-4718-441B-AC93-7F7E928C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895B-28E0-4B92-8273-6B13B66E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593E2-7790-4F2B-9716-5C9F1867DF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