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239734"/>
        <c:axId val="91162302"/>
      </c:barChart>
      <c:catAx>
        <c:axId val="242397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162302"/>
        <c:crosses val="autoZero"/>
        <c:auto val="1"/>
        <c:lblAlgn val="ctr"/>
        <c:lblOffset val="100"/>
        <c:noMultiLvlLbl val="0"/>
      </c:catAx>
      <c:valAx>
        <c:axId val="911623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2397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288D-6079-464E-AFDC-4C482E9E5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E191-D3AF-4700-A128-18B10F957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997C-424C-4767-B8C6-1F5E4E39C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0A64-5D29-459B-89B8-747C4EC26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A669-B903-481E-B043-917576484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1C35-3B77-4776-A670-499924B0D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7837-F951-4B4D-95E8-5FB92E42E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AD40-CE2F-4A93-BA88-9A159505C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FE34-0D38-48A4-8E56-5CDF6F36B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FA9B-DCD0-4655-9C13-8D9E6EC7F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D461-BA4D-4A37-BEA5-40321AC4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0BE8-E44B-4C18-BC7C-69ADBD58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D4B46D-063C-40DF-BB9C-36FEE613ECD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