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85523"/>
        <c:axId val="57012921"/>
      </c:barChart>
      <c:catAx>
        <c:axId val="87685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12921"/>
        <c:crosses val="autoZero"/>
        <c:auto val="1"/>
        <c:lblAlgn val="ctr"/>
        <c:lblOffset val="100"/>
        <c:noMultiLvlLbl val="0"/>
      </c:catAx>
      <c:valAx>
        <c:axId val="57012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85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13F-7724-4D6A-8A9C-52F8679D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73F-0369-43F8-B904-C2A9D269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47A-AC24-404F-86DD-19ED25E5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A5E-8E0C-4C00-90CE-008AC02E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7C8-B81C-44B2-A5EC-3F7D5177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84B-C2E4-408D-80E3-5AFC8875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560-9616-4922-855F-E2BB6379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FEB-FA24-46BD-8531-A1A83CC8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51A-400C-402B-AB8A-A358E056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6D7-8B3E-42CF-94F1-83E8EBB4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163-83C4-4D21-A9C7-B5ACAFC5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D6F-CEB9-4C5B-BDA1-367F0220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960C4-888E-4BF5-B326-9F63CEC742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