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2575"/>
        <c:axId val="33934817"/>
      </c:barChart>
      <c:catAx>
        <c:axId val="8122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34817"/>
        <c:crosses val="autoZero"/>
        <c:auto val="1"/>
        <c:lblAlgn val="ctr"/>
        <c:lblOffset val="100"/>
        <c:noMultiLvlLbl val="0"/>
      </c:catAx>
      <c:valAx>
        <c:axId val="33934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2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248-9264-4CBA-9170-439EFF4F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CA9-D908-4214-8F3B-CC3E5CD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03F-F3BB-46EF-BF29-90B507AE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A66-1DF0-44CB-B6AB-76873C3A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7C0-2768-4C3F-A31F-655FDB3E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5D1-FEED-44E3-B6E5-92483EE9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94D-B0EF-4284-8F48-CECF9BB8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CFB-24B8-49A5-AFC8-992842CA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404-2A28-47EC-8C3D-CBD357C8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631-4A39-434A-AF81-490A389E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8E2-7FE9-4263-9610-B708B4F1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507-2E2D-46C3-A70C-E1FC706A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BB658-D8CA-42DF-91EF-E5E7DC3887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