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73872"/>
        <c:axId val="39639708"/>
      </c:barChart>
      <c:catAx>
        <c:axId val="75473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39708"/>
        <c:crosses val="autoZero"/>
        <c:auto val="1"/>
        <c:lblAlgn val="ctr"/>
        <c:lblOffset val="100"/>
        <c:noMultiLvlLbl val="0"/>
      </c:catAx>
      <c:valAx>
        <c:axId val="39639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73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D31-0AD4-4E56-8CFE-CA9F4FB3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C45-88A9-4C5E-8067-D2E21D39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27E-3580-49AB-8793-555821F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54E-28BD-4504-9715-0F1E12C4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A87-105C-4522-8A2C-1F80EAE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995-F7B2-46CC-8C10-C4F61A61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195-EAE2-4216-9A9D-08FFEC9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2BE-BC09-4612-ADB8-75432A2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2A2-94DC-4BB2-AB14-DEC8979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F5D-DE04-4A00-A534-C3B7C93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617-FCFF-4482-9E38-F7EAA9E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9D9-5FC8-4405-A496-8F1F180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6C686-A59A-4591-B754-C51501EF52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