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67618"/>
        <c:axId val="46790346"/>
      </c:barChart>
      <c:catAx>
        <c:axId val="96867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90346"/>
        <c:crosses val="autoZero"/>
        <c:auto val="1"/>
        <c:lblAlgn val="ctr"/>
        <c:lblOffset val="100"/>
        <c:noMultiLvlLbl val="0"/>
      </c:catAx>
      <c:valAx>
        <c:axId val="46790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7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1AC-B3EB-4F02-AB89-9CD59342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BD6-EF41-46F1-8723-1649F637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327-7051-4DF2-A008-23A6B90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4D7-0386-4889-AA95-55E9123A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F31-22E2-4E34-8890-092F5671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E1A-89B7-40A2-B026-4F5F20A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267-98C4-4BE3-A078-46E3B31D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F5E-4C2B-45BF-9850-30FF92F0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4ED-EF87-4A4B-A929-88F3F4B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D51-871E-4E59-A040-42B7847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923-8C25-413E-9D67-EC2F05B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D99-7E16-4969-A641-6D7097F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70738-E75C-49B5-8516-BE6A9CA8D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