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14011"/>
        <c:axId val="98410856"/>
      </c:barChart>
      <c:catAx>
        <c:axId val="90514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10856"/>
        <c:crosses val="autoZero"/>
        <c:auto val="1"/>
        <c:lblAlgn val="ctr"/>
        <c:lblOffset val="100"/>
        <c:noMultiLvlLbl val="0"/>
      </c:catAx>
      <c:valAx>
        <c:axId val="98410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14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308-5A9C-40EF-98B4-7A648EEB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A0C-A3D4-4EF4-A5AC-2E52E23B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6CC-1DD5-499E-8E4D-8DF90B95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7C7-7FBA-4340-866D-86C2EC3B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EB8-CCA1-4168-9644-CFEDDD07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A15-1F04-497C-B1AF-AD000D7C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FC1-D7F5-4AC5-95D9-093A50A4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D50-70B0-41D7-A612-2BFDC7C0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363-C45D-41A1-9C82-01090C73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D8C-F502-46B6-BDCD-0E06C4D4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70A-8707-4041-835E-012023A0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1674-E476-446A-9F2B-55A97AE2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D2E5C-E2CB-4132-983A-0454A3361A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